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6AC-AB50-4F70-AC15-385D2BCE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99B-59CD-453E-8905-C3051618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82641-D52C-4F98-BEC4-0BC20F64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6D8C2-894E-43C8-A8E9-3CA5861B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64E72-38FC-4300-BCAD-DD170DD0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782A5-4DF3-4862-95C8-AE66603F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EA71D-21D3-4C30-A0E9-A90BCEA4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852AB-130F-4A02-AAF8-120161BA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C7D8F-44EA-4ACC-8701-6CAABFA0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28906-5654-4501-8536-235D92F2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9EA80-4532-4691-8548-24916BAB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AA0-4B00-47AB-A295-DF52B814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D3F-2D67-40C4-8901-2D51B516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F142-FB24-4E5F-A55B-238F3D1C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75BD-B90F-4FF0-A1F7-B362B9DA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8DCB-C3A1-407A-A3F2-9DD58683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4E21-8D31-4BEC-9AA6-3CA4983F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8356-5EA4-43EF-A7CE-97068793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A12C-EF6C-4D81-A92B-5EA6B6F7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5130-9924-4990-98AD-22DC27AA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93C-0664-475B-A1CD-81739A03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118F-0A33-484A-9134-B94F4D8A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CB92-A707-4EB4-B6AD-6AB6F7D9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D59D-1B80-4864-81FB-AB531A27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6D60-674F-4220-AEF7-3E2B95EA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4A42-CF5F-4B29-83FD-A613116A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2FBBE-887C-4E53-930B-FF37DA74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7C93-F949-4655-B071-FEAE11DD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C62D-B88C-4A28-B9D5-AF1E322A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445F5-9AF5-41B7-ABB7-18A775F5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7E11-DDA4-410E-B203-28077C27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4DD-F63F-4EBE-80E7-98420D7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04EA-3D90-40F7-B94B-81ECD177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6F44-DF7C-4497-A089-16441F0F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FDC8-F877-4AFC-966E-68F7B75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5B05-FF1B-47F3-BD3A-13D5303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B3823-7D74-44DC-9885-2D3255DA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CD9F-A08B-418F-ADC9-84112140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B9761-9E02-478E-A588-57D96F77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4CA7F-58F8-4B12-B2A1-98518E89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8CA2-5DF0-49E9-B528-EC517F86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91CE-1C03-43A9-B57C-04542C3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645-3A9E-478E-8F23-B6412853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207F-1108-4B85-A3D2-05B92F53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6035-19FF-40C7-823F-B245EF34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7E136-0111-4566-AD2C-F362E9A0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FF6F-8C50-4784-9E2F-8E72B05D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43AC7-12AA-4C3C-B82F-C99D0B8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78C7-3AEA-4806-B5B3-FB6900FB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AC75-0411-4EFE-A572-11BADC0E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F9D8-88DA-48B1-8B43-1FF85C3D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400A-6655-4100-91BC-2A6BA5C5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589B4-C4C5-4BFC-AFF3-75E03606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E37-E291-4EB0-B416-4EA24AC7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310E2-105F-4F0B-B095-B3E5AF0C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3E64-AF01-4283-A055-20E8924C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74CF6-72DD-4640-9BA2-0F9027C0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69FF-EA97-4D0E-949D-FCA0110A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5435-3FAF-430E-8534-64CFE425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C11D-0F48-4276-836D-4186F9A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B1E3D-4B1D-4926-A6F8-EA727241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FD884-558D-431D-BF8B-71DF1D3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5542F-9CBD-4620-B7DA-AD715236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72BB9-B80B-4354-B741-D707920D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C62-0ADC-4E24-AD24-B29FB670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B5549-D4DA-438E-B09A-9D168D68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8DFC7-B3BF-4415-BB70-FB8FCC2E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E113E-D90C-4BD7-A9D3-CA96DE9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65AC8-58D6-4024-BC5F-EC40392D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853F-50CB-4A19-94BA-111E59AB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49817-0225-47DD-9A5A-9DC25F12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7E87-8011-4E5B-9C8B-A41611FC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B6575-FBEE-40AC-B034-758B839E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75AA-83F7-4FA9-AEE9-13DF962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C066C-6F0F-4217-B000-AB0DFD87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FA3-196B-4F29-A738-8F169D2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DC6D8-89C3-427D-8AC1-C4080690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13C0C-C025-469A-B3DE-5D5BE81B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57E7E-B5EA-4B6C-9260-FC8D747E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CD42B-A0CE-49D2-B7DF-9DFB5D2D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E0C0F-A344-4512-BA81-34D79DC3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CFE2B-D119-4C7F-A83E-A8EBCB09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8E22A-B9C4-414C-8904-0E11FA7B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92C36-BE9A-4B76-9587-3E439371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AE5A9-112E-4A3A-A4D8-44CCA5A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7C1FD-8AC3-40D1-9429-C30B0828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8A1-87DB-4F9C-B584-BEF95E88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3781C-928A-481E-A094-D7FFE307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EE55-6492-454E-AC42-808AC9BC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018B-34C9-4C47-8E6C-B5AA7C93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8BF79-5837-4D3F-8116-6E9EF79E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AFCC6-0C35-466C-B486-F847E32F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DDCC6-D35F-4B40-909B-6FA44C5C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DC47A-97AF-4A5B-8B8B-3A05ABDC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05AEA-7BAD-49C0-85CD-0F272603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A176B-0A3C-440F-81F4-574E212B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EA222-E36B-4055-A971-95313F41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939-C024-4A45-A438-614BB20A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A3A06-EB92-4866-983B-94AAF84E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DA775-D2A2-464E-A913-7742690F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B815-435F-4626-8DDB-E3D7A132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355D0-D3F9-4942-936F-51DF6C1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0B0A0-FB83-4ACD-B628-4BBF955D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F66C2-3E20-4A6E-AA74-97F97DA3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38CCF-490F-4393-8CF8-34B93F1E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06C09-E7A8-4176-B2AB-6EE8A03E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71D7C-CE68-45D7-BA04-1E2BD222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E68B4-17D6-4AE6-8B84-60F3D2CC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D4D29-E2E3-4BE3-BCD6-BB6A576F5627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E2CB2-6E0C-4404-9E2F-E5455887E166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7D17D-186D-4CDC-8F61-6B3F9A2D45B9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D54FC-8249-439F-A4DB-A442A7DAC5CC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9DA2D-23FB-4CD7-BCA0-AC82B58B85C7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E474B-FA9C-4BD2-BED4-0DCF9314A076}" type="slidenum">
              <a:rPr b="1" lang="en-US" sz="11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FF9ED-1774-4DC6-AEB7-09A9ACEA3937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C0299-2E19-41BC-87AA-F13D663172FA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DD37B-138A-46BD-94AE-0267C25B003F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B8154-8BF8-4FD5-BEBA-CCE4920C93C7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0AA51-68BC-4357-A78C-369469DCE7CC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183A3-3DA3-4A34-A0B6-F2022B232397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DECF1-23E0-400D-AC46-FF1EBC0076AF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E386E-2CD7-4AF3-A1EC-252889928F5B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C5585-B29E-4CD3-80EA-72FFD0C993B3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7FD76-2A7F-4554-95A6-AD374C9BF4D0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3AC1A-1C0F-45FD-A9E9-45D8B67A1E36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7EA81-2776-4DD7-9514-2C1F3161B4FC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ltedworld.com/Melted_English/view_video.php?viewkey=2936a96d3c8bd1f8f2ff&amp;category=r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193"/>
                </a:solidFill>
                <a:latin typeface="Calisto MT"/>
              </a:rPr>
              <a:t>Earth Week 2009</a:t>
            </a:r>
            <a:endParaRPr b="0" lang="en-US" sz="6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 Climate Crisis: A Focus on Energy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bd7f8"/>
                </a:solidFill>
                <a:latin typeface="Calisto MT"/>
              </a:rPr>
              <a:t>Mr. Weaver</a:t>
            </a:r>
            <a:endParaRPr b="0" lang="en-US" sz="3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Closure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39800" y="282852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 your own words, explain “the greenhouse effect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 how human activity has unnaturally altered this proces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ite evidence supporting the theory that human activity significantly contributes to global warming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ssess the validity of this evidenc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Closure </a:t>
            </a:r>
            <a:r>
              <a:rPr b="1" lang="en-US" sz="3000" spc="-1" strike="noStrike">
                <a:solidFill>
                  <a:srgbClr val="fff193"/>
                </a:solidFill>
                <a:latin typeface="Calisto MT"/>
              </a:rPr>
              <a:t>(Slide 2)</a:t>
            </a:r>
            <a:endParaRPr b="0" lang="en-US" sz="3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2769840"/>
            <a:ext cx="822960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Describe how the planet will change if global warming continues to accelerat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nsequences on living beings?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alyze your lifestyle and identify a few changes you would make to decrease your energy consumptio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w would the planet benefit if everyone made these changes?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Tonight’s Assignmen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r homework, please collect the following information from your parent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pproximate size of your home (in square feet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ype of energy you use to heat your hous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nergy saving features in house (Energy Star appliances, storm windows, insulation, water saving features, etc.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Miles traveled in a year by car, bus, train, plan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here your family gets groceries and whether they buy organic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18920" y="2362320"/>
            <a:ext cx="7662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The student will be able to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1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plain the phenomenon of “the greenhouse effect” and describe how human activity has unnaturally altered this process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1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ite evidence supporting the theory that human activity significantly contributes to global warming and analyze the validity of this evidence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1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 how global warming is changing the planet and explain the disastrous consequences of not halting the proces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1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nalyze his/her lifestyle and create a plan for reducing his/her energy consumption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1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Global Warming Pre-Tes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2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arm-up Activity – considering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your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mpac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3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“Global Warming 101” vide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4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osur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5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egin home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Before We Begin…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lease complete the Earth Week Pre-Tes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Just go with your first thought fo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ach questio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o not spend more than a few second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n any one question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hen you are finished, please tur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your paper ov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Hand in Your Pre-Test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roughout the unit, we will address each topic covered on this pre-tes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llow the unit notes/outline as we encounter each topic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3200400" y="4316400"/>
            <a:ext cx="33512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Close Your Eyes…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ose your eyes and think about your daily routines, about how you live your lif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Breathing, eating, driving/taking the bus to school, listening to your iPod, doing school work, reading books, etc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Your possession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hoes, clothes, car, computer, bed, cell phone, jewelry, etc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Have You Ever Considered…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Have you ever considered what natura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resources you consume on a daily basis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hat materials do you take from th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arth just to survive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How does your very existence impact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the environment?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6324480" y="236232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6095880" y="457200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Human Impact on the Earth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roughout this unit, we will focus on this question of how human activity affects the environmen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e will primarily focus on energy usage and how it contributes to climate chang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sto MT"/>
              </a:rPr>
              <a:t>The big question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: </a:t>
            </a:r>
            <a:r>
              <a:rPr b="1" i="1" lang="en-US" sz="2200" spc="-1" strike="noStrike">
                <a:solidFill>
                  <a:srgbClr val="595959"/>
                </a:solidFill>
                <a:latin typeface="Calisto MT"/>
              </a:rPr>
              <a:t>How can we lessen our impact on the environment so we can indefinitely sustain life on planet Earth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Global Warming 101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following video from National Geographic briefly introduces the scientific phenomenon of “global warming” and provides data supporting the idea that human activity is a major contributor to i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Disastrous consequences if we do not change our way of lif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nit study guide/outlin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b0f0"/>
                </a:solidFill>
                <a:uFillTx/>
                <a:latin typeface="Calisto MT"/>
                <a:hlinkClick r:id="rId2"/>
              </a:rPr>
              <a:t>Click here for vide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2:05:33Z</dcterms:created>
  <dc:creator>WASD</dc:creator>
  <dc:description/>
  <dc:language>en-US</dc:language>
  <cp:lastModifiedBy>WASD</cp:lastModifiedBy>
  <dcterms:modified xsi:type="dcterms:W3CDTF">2009-02-11T14:45:54Z</dcterms:modified>
  <cp:revision>9</cp:revision>
  <dc:subject/>
  <dc:title>Earth Week 2009</dc:title>
</cp:coreProperties>
</file>